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664F-32FA-4AD0-ADC0-D17642F2F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A42-2457-457E-B179-2B8B2B46DA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4B9-0874-4E13-B38D-C9998C66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C2C-CF12-4D38-8A41-0F644BE0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E51-A809-4306-994D-C4BA929E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F7F-6557-4807-AA68-E5F5FCD0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C619-E56F-4052-BA9E-3BD928F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254B-358F-484C-84C4-81856CEC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577-E67C-4230-B3A8-395FB457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6B7A-235F-4B14-A429-44E5FDE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08F5-E67C-4D11-974D-829E416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7EB-B388-4E5D-9688-834F67E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A13-257B-48E3-8DB1-8833EF0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490-5AEF-45F7-9066-B6498DDB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D88-61F1-48DE-B46A-38A3237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F923-EDE2-42B5-84EB-01F5F86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DC6-E34D-4509-B89F-FE6332B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CEEE-DA30-4FC0-823C-2145CBC2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B181-C549-424C-A706-FC48823C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021-F8F4-45F3-A248-DF8BBE5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0B0-2F7E-4582-91FD-D59FAB2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0BB-508A-428C-A08D-0DB9D23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8F0-D08B-4C1A-8FD2-32B7F2B6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D04-F94C-4229-9159-4FD223E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0CE-1F1F-4D12-A7F4-548E7739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7EB-5BC9-4780-B94A-E15576A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90A5-D238-4127-83B8-42C544053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4C9-4ACE-4B2E-AEF1-C101D4DD5A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35280" y="476280"/>
            <a:ext cx="22860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Clowniaid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72240" y="1635120"/>
            <a:ext cx="785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all 26 clown chwythu lan 26 balwn mewn 26 mun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clown sydd eu hangen i chwythu lan 78 bal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wn 78 munu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98383"/>
          <p:cNvPicPr/>
          <p:nvPr/>
        </p:nvPicPr>
        <p:blipFill>
          <a:blip r:embed="rId1"/>
          <a:stretch/>
        </p:blipFill>
        <p:spPr>
          <a:xfrm>
            <a:off x="5435640" y="3141720"/>
            <a:ext cx="2367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11:10Z</dcterms:created>
  <dc:creator>Carwyn</dc:creator>
  <dc:description/>
  <dc:language>en-US</dc:language>
  <cp:lastModifiedBy>Carwyn</cp:lastModifiedBy>
  <dcterms:modified xsi:type="dcterms:W3CDTF">2009-11-29T14:33:59Z</dcterms:modified>
  <cp:revision>2</cp:revision>
  <dc:subject/>
  <dc:title>Clowniaid</dc:title>
</cp:coreProperties>
</file>